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E49-1DDC-4DC1-B1C5-D27E4205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207-86C5-438E-AD6A-4300C93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76B0D-22BE-4672-B942-96FD677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34A97-E28D-4073-BBCA-8DBD7513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CE13E-BFF2-4D7A-9C18-12399BE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D97C-2C31-4E89-A60A-BC37BEE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1C2F6-1EE2-4CE6-865D-5AC9F654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FADB-DAA7-4869-A5DE-76FF352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7308-C363-4D2F-AFE2-59FCDD43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6B0BA-9CE1-493B-8098-6EFA27AB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DBF67-15EA-478F-92EB-94EC071B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D49CD-1249-4B75-8FAC-3C4E6FCB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04B-E6B3-4CF4-B6F2-BC5226B9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2AE07-9C65-43C2-A87B-CB9866C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6053B-E0B5-4EBA-9C4F-215C20E9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4D2E-B043-42E4-BE39-1AB7F55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89BBC-3BCF-420B-B559-9ADD326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6A237-79F8-4006-A869-913E38E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75991-F913-4420-8CC9-8E677D4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84131-64BF-47FF-9595-FA5B9CA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620A2-1D3B-4696-B60A-76FE4D7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FA50E-1426-431A-B98A-424E065A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DB646-FCFA-4EE9-8F76-499353A9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226-E863-43B5-B628-FA800C55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2ED04-962D-4DA9-B6D8-BAF78865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EA1A-8B83-40A0-9EE5-57238637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644-1362-485E-A773-09B09EC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619C-E853-4396-BDC1-4FE211A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E34-032E-4A23-BBD3-DDEACC7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E1B-8DBA-4A90-BC66-C6D2AD3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ACDF-749F-44F1-9945-46AFFF72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EEF0-30D3-4DEF-9826-B38FD4E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7CC-7F3F-4344-8946-1412610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432-EA5D-4CD2-B446-E12EF15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CEC-4D09-45BC-8A2A-9E1B079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722-0BCA-4667-9FB0-E9E71989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611-1BBE-45EE-A7B6-3EC59A16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996F-4749-41BC-8AFE-0D531B02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4C15-FAF0-4270-87FC-F0B0CFBE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4836-E6F2-41FC-97DF-D8930DF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9B13-9D71-4C1E-A435-289BBE82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5E14-4AD3-4355-842E-9107107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A34D-F714-401F-BE3D-B3D6632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DB6-D7EB-4359-AD40-579F3A5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5763-96C3-4519-9927-9DC1403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66FF-7680-4FB1-833E-598ED10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AF3E-F952-47DC-B727-04AC85E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DED3-4CA3-41FB-ACC9-C7680B3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0A28-BB0A-428A-A814-37A10ED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25CE-94D8-4BED-83F1-F478617E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5758-DF1D-4789-95B7-F6781BF0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5BE9-F91D-4823-8778-5E57CE0F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C1FD-1B91-4A76-910E-1F31D424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C8FE-BC7E-483A-8B6D-D2A9AB2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A77-A3C2-4870-ADBD-45DA6E4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047A-D087-4E1B-BA48-F9BD610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4738-135F-40A5-A24A-E036E2D7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0F1A-8B8D-4B85-AF82-45FCA78E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A992-2C1D-41C0-B5EE-88021C9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163C-C8E1-447E-A38B-5275BFE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DB45-6C5D-4520-9828-DEDB7EA2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4C4B-BE6E-40DC-888B-26F1411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B719-DDF0-4179-85E1-CB7BB991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CC27-3AD5-4947-B49F-87F6AF40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FA4A-727E-4059-9542-19A51E1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CBD-A074-421C-94B7-82B2526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6BAD6-345B-461B-A884-CACF38D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68ED0-4A0F-42A0-B9FC-074425B9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8256-82A0-4470-8EC7-B858BD7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5229-0B88-402A-B1E5-C35FF75A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D6F2-2101-4C5A-9936-41AEBBA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0E07-602F-4FAC-987A-534BCBD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E422-4EA7-4FAD-84B2-71F483E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371F-E0B8-4BFE-A197-A910417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910C-EE01-4CF5-8086-EF1062B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A92E2-8ECC-4DE7-8EEF-D8812531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CD2-7866-456B-A225-7DD51FC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C9C8-DD89-4826-AEE7-D8F3ABCD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1B99-6488-442E-8D0E-E3416DFD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6966-EEB1-4188-81C1-EB81DF1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E28E3-91FD-4C0C-AE77-6B6E5481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D0A8-C39B-497E-BA1A-E54AB5E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5811-0DE4-4950-9018-DF23E9F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983F-82F4-44C2-9D17-F4AED40D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F7E5-D650-41D2-B38E-5C4C9742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F93E0-7392-44C5-8237-68813CE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85CD-FA33-4A88-9E79-B2782765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F4E-2B34-4E6E-980B-BB7E6D2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C821-CAC9-44AE-B1B0-5977B42D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0195-9560-49EA-AFD7-7EFE9DB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CFF4-9638-44F4-AF63-A6312B4B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12DC-5776-42AA-AA3C-9E32E6C5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8461C-F2EA-4AEE-A73D-0006FF94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FFD4-8320-4F40-B9F6-ED3F5DFF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C0BA-9D08-400B-A628-D699CED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FFF6-BA81-4DA1-8C76-E4463D2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CCA32-0569-4E58-8695-BAE2A3C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2B03-5A8E-498B-AE7C-516CFB5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83C-CB6A-40B1-83DD-FFE3316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75695-4A43-4093-A13C-FE113E9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E552-ACC7-45EB-B276-FD7D813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BB11-20B9-4133-9BB3-B1D3524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95F6-9E2A-4ADD-99E9-65FD4B46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FD7A-1D31-4D45-83AA-56162884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2BAFC-0BC6-44CD-B309-744775D6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58D8-8546-4E0B-A4AC-08C82DB8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3A68-6952-4FBF-A6DE-3D217ABB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A8D5-0DE6-4A19-81E1-9E7D2993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35DE-2F32-4320-9FA6-34CF8075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DDA-E7F5-4562-887E-26D822E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83CFC-AD7E-467C-8B88-33B2E49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13AA-69D1-4A84-83C7-D90BE76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1E17E-00D2-4A53-8A06-B2A7F3D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10BC-0694-44C6-8C19-A6CE2E6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AB04-F8C7-48BB-B4D2-F65F656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D7786-276C-46B5-90E8-3326F95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454D-B8A1-48F3-8D7D-94971A1B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F6FAD-AFF8-4532-97F4-1716646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6EED-51D6-4D3E-ACE5-4D8F5943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5DF81-AEC9-4290-B90C-601A2B3C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C41B-AA0A-40DA-AD43-4D2243CF34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2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914-2E65-4421-BB05-A0700BEE21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B7A3-B678-4B6A-A0FC-395925A622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E77-1C75-4D36-9A6B-A7D336ED5B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DE1-8DD5-4D5A-9360-C94CCCD2B1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8C3-80D5-4AEF-8015-E5C5E5DFBF4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1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1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2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D55-CBA1-436E-98BE-59583E102FF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299-A7BE-4027-A465-E81454FE2A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7BD-6B16-4573-B180-4F8DA3036A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42B-A403-4D7F-B040-7E7EF1CBD6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73;&#1077;&#1083;&#110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1;&#1080;&#1089;&#1090;&#1100;&#1103;" TargetMode="External"/><Relationship Id="rId4" Type="http://schemas.openxmlformats.org/officeDocument/2006/relationships/hyperlink" Target="http://ru.wikipedia.org/wiki/&#1062;&#1074;&#1077;&#1090;&#1099;" TargetMode="External"/><Relationship Id="rId5" Type="http://schemas.openxmlformats.org/officeDocument/2006/relationships/hyperlink" Target="http://ru.wikipedia.org/wiki/&#1051;&#1077;&#1087;&#1077;&#1089;&#1090;&#1086;&#1082;" TargetMode="External"/><Relationship Id="rId6" Type="http://schemas.openxmlformats.org/officeDocument/2006/relationships/hyperlink" Target="http://ru.wikipedia.org/wiki/&#1063;&#1072;&#1096;&#1077;&#1083;&#1080;&#1089;&#1090;&#1080;&#1082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&#1052;&#1085;&#1086;&#1075;&#1086;&#1083;&#1077;&#1090;&#1085;&#1080;&#1077;_&#1088;&#1072;&#1089;&#1090;&#1077;&#1085;&#1080;&#1103;" TargetMode="External"/><Relationship Id="rId3" Type="http://schemas.openxmlformats.org/officeDocument/2006/relationships/hyperlink" Target="http://ru.wikipedia.org/wiki/&#1042;&#1086;&#1076;&#1085;&#1099;&#1077;_&#1088;&#1072;&#1089;&#1090;&#1077;&#1085;&#1080;&#1103;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Аквариумные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растения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Выполнила : Алексеева И.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тудентка 636г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Элодея</a:t>
            </a:r>
            <a:r>
              <a:rPr b="0" lang="en-US" sz="30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776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ускает длинные, сильно разветвлённые </a:t>
            </a: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 Unicode MS"/>
                <a:hlinkClick r:id="rId1"/>
              </a:rPr>
              <a:t>стебл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, растущие чрезвычайно быстро и достигающие нередко длины более двух ме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Листочки ярко-зелёные, прозрачные, от продолговато-яйцевидных до линейно-ланцетных, слегка курчавые, острые, по килю мелкопильчатые. В макушечных частях стебля листочки бывают всегда светлее окраской, нежели в ниж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605480" y="1447920"/>
            <a:ext cx="377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275px-ElodeaCanadensis" descr="Элодея канадская"/>
          <p:cNvPicPr/>
          <p:nvPr/>
        </p:nvPicPr>
        <p:blipFill>
          <a:blip r:embed="rId2"/>
          <a:stretch/>
        </p:blipFill>
        <p:spPr>
          <a:xfrm>
            <a:off x="5029200" y="1371600"/>
            <a:ext cx="3000240" cy="38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Unicode MS"/>
              </a:rPr>
              <a:t>Кабомб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1"/>
              </a:rPr>
              <a:t>Корневище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его ползучее, стелющееся, пускающее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2"/>
              </a:rPr>
              <a:t>стебл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из уз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Главную оригинальность кабомбы представляют её подводные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3"/>
              </a:rPr>
              <a:t>листья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, которые не цельные, а веерообразные, мелкорассеч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4"/>
              </a:rPr>
              <a:t>Цветы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небольшие, серебристо-белые с жёлтой серединой или просто желтоватые с тремя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5"/>
              </a:rPr>
              <a:t>лепестк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и треми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 Unicode MS"/>
                <a:hlinkClick r:id="rId6"/>
              </a:rPr>
              <a:t>чашелистик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Цветение происходит ранней весной, в апреле или м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Кабомба водная"/>
          <p:cNvPicPr/>
          <p:nvPr/>
        </p:nvPicPr>
        <p:blipFill>
          <a:blip r:embed="rId7"/>
          <a:stretch/>
        </p:blipFill>
        <p:spPr>
          <a:xfrm>
            <a:off x="5029200" y="1752480"/>
            <a:ext cx="3689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Роголистник</a:t>
            </a:r>
            <a:r>
              <a:rPr b="0" lang="en-US" sz="3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267080" y="14479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линностебельное растение с игольчатыми листьями темно-зеленого цвета и красноватыми стеблями. Растет в толще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растение достаточно светолюб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доросли на его листьях поселяются ред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Роголистник темно-зеленый (Ceratophyllum demersum)"/>
          <p:cNvPicPr/>
          <p:nvPr/>
        </p:nvPicPr>
        <p:blipFill>
          <a:blip r:embed="rId1"/>
          <a:stretch/>
        </p:blipFill>
        <p:spPr>
          <a:xfrm>
            <a:off x="736560" y="1523880"/>
            <a:ext cx="34671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Unicode MS"/>
              </a:rPr>
              <a:t>Риччи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62520" y="144792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ччия плавающая относится к моховидными из группы печен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у мхов, ни настоящих побегов, ни корней у нее нет. Плавая у самой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разраст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высота: 1 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местообит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чие воды, размещение: закрепите на опоре или оставьте пл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Риччия"/>
          <p:cNvPicPr/>
          <p:nvPr/>
        </p:nvPicPr>
        <p:blipFill>
          <a:blip r:embed="rId1"/>
          <a:stretch/>
        </p:blipFill>
        <p:spPr>
          <a:xfrm>
            <a:off x="380880" y="1828800"/>
            <a:ext cx="35816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убышк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456840" y="144756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114800" y="17524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М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 Unicode MS"/>
                <a:hlinkClick r:id="rId2"/>
              </a:rPr>
              <a:t>ноголетне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 Unicode MS"/>
                <a:hlinkClick r:id="rId3"/>
              </a:rPr>
              <a:t>водно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 растение с длинным толстым мясистым горизонтальным корневищ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лавающие на поверхности воды листья плотные тёмно-зелёные. Листья, находящиеся в толще воды, — полупрозра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Цветки крупные жёлтые, сидят на выдающихся из воды цветоно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Плод с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Растение может цвести всё л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23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275px-Nuphar_lutea_170803" descr="Кубышка жёлтая"/>
          <p:cNvPicPr/>
          <p:nvPr/>
        </p:nvPicPr>
        <p:blipFill>
          <a:blip r:embed="rId4"/>
          <a:stretch/>
        </p:blipFill>
        <p:spPr>
          <a:xfrm>
            <a:off x="762120" y="19051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ctr">
              <a:lnSpc>
                <a:spcPct val="80000"/>
              </a:lnSpc>
              <a:spcBef>
                <a:spcPts val="24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Спасибо за 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внимание!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вариумные раст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необходимый элемент любого аквар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ышные заросли водных растений, располагаясь в толще воды, создают новые специфические возможности пространственной аранжировки, присущие только водной стихи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Аквариумные раст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Устанавливают биологическое равновесие водной среды, обогащают воду кислородом, играют важную роль в обмене веществ, необходимых для жизнедеятельности рыб и сами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2080" y="637920"/>
            <a:ext cx="8064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начение растений для аквариумных ры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Для растительноядных рыб водоросли являются основной пищей, а для всеядных - витаминной добавкой в рационе. Растения, приближая аквариум к более естественной среде обитания, побуждают рыб к более полному проявлению особенностей их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квариумные растения следует подбирать с учетом особенностей условий, в которых они будут разви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одержание распространенных аквариумных растен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Плавающие на поверхности вод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они охраняют аквариум от чрезмерно яркого солнечного света, служат местом нереста многих рыб, способствуют биологическому равновесию в искусственном водо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1760" y="-26784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Плавающие в толще воды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ктивно насыщают воду кислородом, служат местом нерестилища и укрытием для мальков, а для некоторых видов рыб даже пищевой добав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Нуждаются в фильтрации воды, так как чувствительны к загрязнению своих листьев и к перепаду температ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-23004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Укореняющиеся в грун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Для этих растений характерно хорошее развитие корнев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Они имеют плотное корневище и хорошо развитые листья. Для этих растений необходим слой грунта в 5-10 с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 Unicode MS"/>
              </a:rPr>
              <a:t>Людвигия ползучая</a:t>
            </a:r>
            <a:r>
              <a:rPr b="1" lang="ru-RU" sz="3900" spc="-1" strike="noStrike">
                <a:solidFill>
                  <a:srgbClr val="330066"/>
                </a:solidFill>
                <a:latin typeface="Arial Unicode MS"/>
              </a:rPr>
              <a:t> (Ludwigia repens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растения с прямостоячим или горизонтально растущим стеблем и супротивным или очередным листорасполо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е высотой до 50 см с удлиненным прямостоячим стеблем, дающим много боковых побегов, растет в болотах и под водой в южной части Северной Америки, в Центральной Америке и на Больших Антильских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Людвигия ползучая. Видовой аквариум с кардиналами"/>
          <p:cNvPicPr/>
          <p:nvPr/>
        </p:nvPicPr>
        <p:blipFill>
          <a:blip r:embed="rId1"/>
          <a:stretch/>
        </p:blipFill>
        <p:spPr>
          <a:xfrm>
            <a:off x="5175360" y="1905120"/>
            <a:ext cx="2992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яс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Представители рода — крохотные многолетние растеньица, плавающие обыкновенно в большом количестве на поверхности стоячих в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Цветут они крайне ред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Цветки мелкие, невзрачные, однополые, появляются в кармаш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0288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275px-Eendekroos_dicht_bijeen" descr="Lemna minor"/>
          <p:cNvPicPr/>
          <p:nvPr/>
        </p:nvPicPr>
        <p:blipFill>
          <a:blip r:embed="rId1"/>
          <a:stretch/>
        </p:blipFill>
        <p:spPr>
          <a:xfrm>
            <a:off x="5105520" y="198108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га</cp:lastModifiedBy>
  <dcterms:modified xsi:type="dcterms:W3CDTF">2010-06-06T15:51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